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media/image6.jpeg" ContentType="image/jpeg"/>
  <Override PartName="/ppt/media/image7.wmf" ContentType="image/x-wmf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AECE9-31A5-4987-9511-2B08AE46E2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zooburst.media.s3.amazonaws.com/documentation/ZooBurst-Quickstart_Guide.pd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3 pages user guide with ZooBurst explained in detail.  It also has a support link and email for questions that need to be answer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mium ZooBurst account holders have access to more student account capabilities (250), access to advanced tools, features, sound clip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67A2D-0213-4D0D-9811-1E45E0C92D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riting Profile Outcomes that would be covered through ZooBurst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tent-Choose and expand on a general topi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rganization-Present ideas in a logical sequ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rd Choice-Include some descriptive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oice-Shows awareness of audi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Shows personal interest in a subje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Conveys personal feeling or individual styl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oice is a writing trait that is not easily included in many written stories.  Using ZooBurst would be a great way for authors to think about their audience and how they want to be seen as a wri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11F94-3DF4-4D8A-BBF4-C445B22A24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feren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zooburst.com/zb_welcome.ph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zooburst.media.s3.amazonaws.com/documentation/ZooBurst-Quickstart_Guide.pd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youtube.com/v/jwE25dx2Ca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youtube.com/v/tpmqs7Yn8V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port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6C518-E5C4-41E0-A630-4E483925F8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AF2EE-A989-40BB-93BC-F70F3A919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CF8C6-6AE4-434D-B6AE-1DB090021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7BE11-3A61-488A-885F-24403FEA2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A3BE8-7AF2-47BF-9F27-762E7B7D6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940DF-C9AD-4AA5-A065-6F6523C75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84D37-675E-402B-94AE-6B0C8E6E9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1EDC7-6C89-40BD-A8A2-9F74CF80E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5BFFB-727B-4A91-B0EF-C1FB4FB17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CFB23-D106-452A-B5DA-283D2B623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29208-D950-4CA7-B500-2ABF9BD9C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226F7-AEE2-4454-A871-54EB60707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EADA5-282B-43E5-A725-B57835AA3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BB5F3-45BF-4ADA-B9F6-AEF87A6D86EF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1052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ZooBurst</a:t>
            </a:r>
            <a:br>
              <a:rPr sz="4400"/>
            </a:br>
            <a:r>
              <a:rPr b="0" lang="es-UY" sz="1600" spc="-1" strike="noStrike">
                <a:solidFill>
                  <a:srgbClr val="000000"/>
                </a:solidFill>
                <a:latin typeface="Arial"/>
              </a:rPr>
              <a:t>By: Shelley Hawk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ooBurst is a digital storytelling t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stomized 3D pop up bo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ewed on desktop or laptop computer and iP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thors can share boo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be embedded in any websi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 blo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 st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zooburst.com/zb_welcome.ph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 to Gallery-book on Clou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it wor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ooburst is free to sign up (Basi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an accou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writing and creating your book-up to 10 pages in length and 10 student accou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Premium)Unlimited access costs $49.99 a y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ool account with 5 teachers cos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$29.99 per teac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"/>
          <p:cNvSpPr/>
          <p:nvPr/>
        </p:nvSpPr>
        <p:spPr>
          <a:xfrm>
            <a:off x="2286000" y="31050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youtube.com/watch?v=tpmqs7Yn8V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ShockwaveFlash1"/>
          <p:cNvGraphicFramePr/>
          <p:nvPr/>
        </p:nvGraphicFramePr>
        <p:xfrm>
          <a:off x="900000" y="907920"/>
          <a:ext cx="6696360" cy="5185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9" name="ShockwaveFlash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00000" y="907920"/>
                    <a:ext cx="6696360" cy="51850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mer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webcam makes the ZooBurst book appear in augmented reality.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:4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ShockwaveFlash1"/>
          <p:cNvGraphicFramePr/>
          <p:nvPr/>
        </p:nvGraphicFramePr>
        <p:xfrm>
          <a:off x="250920" y="2492280"/>
          <a:ext cx="6913440" cy="4365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3" name="ShockwaveFlash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0920" y="2492280"/>
                    <a:ext cx="6913440" cy="43657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Use I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s learn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Use descriptive 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Practice using dialog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Publish and share their work with 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View and comment on peer s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Develop and showcase their ‘voice’ 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urity/Man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achers set up the classroom account and assign usernames and passw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achers can manage and monitor work in a protected enviro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personal information is requi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ZooBurst account holders c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ess books and only if sha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ry owners must approve an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ents made about their s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most Finished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zooburst.com/zb_welcome.ph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8T02:07:17Z</dcterms:created>
  <dc:creator>Mariajose</dc:creator>
  <dc:description/>
  <dc:language>en-US</dc:language>
  <cp:lastModifiedBy>hawkeshl</cp:lastModifiedBy>
  <dcterms:modified xsi:type="dcterms:W3CDTF">2013-07-04T12:00:21Z</dcterms:modified>
  <cp:revision>22</cp:revision>
  <dc:subject/>
  <dc:title>TITLE</dc:title>
</cp:coreProperties>
</file>